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6829-D7E0-4FAB-8E19-97E3EFB6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00B-C4E5-4B48-972A-C5F42E4F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26F-C553-4D5B-BEE4-579AE632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A41-A070-40B8-8A03-A52EA394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0D9-F20E-4219-B31F-4B4BB05E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7FE-B16D-48EB-BD76-D607E448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936-9A45-4797-96B5-8D4A7866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CBA-7B9D-4E41-AE58-3976FDA6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8B9-71B7-45D1-A709-2F50C4B0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AAFB-D6F1-4F0F-8808-FCD0A1C4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815-52FA-4217-BCF6-9A402686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BA38-EE94-444E-A981-F209B875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888B9-A3E2-494B-88AD-A7EC2A65E2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y G. B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0640" y="2160720"/>
            <a:ext cx="6478560" cy="4171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36960" y="1600200"/>
            <a:ext cx="1548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Hon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 is for Vio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20680" y="360360"/>
            <a:ext cx="781524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9920" y="6103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y likes all the colors of the rainb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7120" y="360360"/>
            <a:ext cx="700236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my friend Roy G. Biv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50760" y="360360"/>
            <a:ext cx="815688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loves the colors in his na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85760" y="360360"/>
            <a:ext cx="788688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is f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03360" y="360360"/>
            <a:ext cx="525312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is for O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0200" y="360360"/>
            <a:ext cx="739800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is for Yel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7120" y="360360"/>
            <a:ext cx="700236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 is for G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63640" y="360360"/>
            <a:ext cx="653256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is for B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92120" y="360360"/>
            <a:ext cx="727560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is forInd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7120" y="360360"/>
            <a:ext cx="7002360" cy="525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ary Bishop</dc:creator>
  <dc:description/>
  <dc:language>en-US</dc:language>
  <cp:lastModifiedBy>marshallp</cp:lastModifiedBy>
  <dcterms:modified xsi:type="dcterms:W3CDTF">2009-11-03T16:21:14Z</dcterms:modified>
  <cp:revision>1</cp:revision>
  <dc:subject/>
  <dc:title>Roy G. Biv</dc:title>
</cp:coreProperties>
</file>